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3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E30-3378-460F-95A2-114D9E3E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848-58DC-4E98-A4C2-EF564763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168-DA9E-4259-8482-A365EE2D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A64-BDF1-4B9B-B395-F11DFE62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0F0-5E6F-4B56-A86E-16354FEF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ADC-3410-4013-B71E-17FDA4DB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9DC-802B-4D4E-9DF5-FC98A616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F55-552B-4099-AB72-6103FB91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176-5E8C-41CE-BC52-418230D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2ED-C5ED-4C70-BDA0-7117AA9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BBA-C42A-41C5-BAAB-190DEF9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17E-10AB-497F-9EC5-0808B705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4D15-7BF8-4407-AE6B-28C3A4FE0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4.jpeg"/><Relationship Id="rId8" Type="http://schemas.openxmlformats.org/officeDocument/2006/relationships/image" Target="../media/image21.png"/><Relationship Id="rId9" Type="http://schemas.openxmlformats.org/officeDocument/2006/relationships/image" Target="../media/image25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cartoonclipartfree.com/Cliparts_Free/Pflanzen_Free/Cartoon_Clipart_Free_Page_3.html" TargetMode="External"/><Relationship Id="rId5" Type="http://schemas.openxmlformats.org/officeDocument/2006/relationships/hyperlink" Target="http://win-web.ru/clip/view/cveti-4.html" TargetMode="External"/><Relationship Id="rId6" Type="http://schemas.openxmlformats.org/officeDocument/2006/relationships/hyperlink" Target="http://win-web.ru/clip/view/cveti-4.html" TargetMode="External"/><Relationship Id="rId7" Type="http://schemas.openxmlformats.org/officeDocument/2006/relationships/hyperlink" Target="http://win-web.ru/clip/view/cveti-4.html" TargetMode="External"/><Relationship Id="rId8" Type="http://schemas.openxmlformats.org/officeDocument/2006/relationships/hyperlink" Target="http://win-web.ru/clip/view/cveti-4.html" TargetMode="External"/><Relationship Id="rId9" Type="http://schemas.openxmlformats.org/officeDocument/2006/relationships/hyperlink" Target="http://win-web.ru/clip/view/cveti-4.html" TargetMode="External"/><Relationship Id="rId10" Type="http://schemas.openxmlformats.org/officeDocument/2006/relationships/hyperlink" Target="http://win-web.ru/clip/view/cveti-4.html" TargetMode="External"/><Relationship Id="rId11" Type="http://schemas.openxmlformats.org/officeDocument/2006/relationships/hyperlink" Target="http://win-web.ru/clip/view/cveti-4.html" TargetMode="External"/><Relationship Id="rId12" Type="http://schemas.openxmlformats.org/officeDocument/2006/relationships/hyperlink" Target="http://win-web.ru/clip/view/cveti-4.html" TargetMode="External"/><Relationship Id="rId13" Type="http://schemas.openxmlformats.org/officeDocument/2006/relationships/hyperlink" Target="http://news.marketgid.com/ru/907/page2003.html" TargetMode="External"/><Relationship Id="rId14" Type="http://schemas.openxmlformats.org/officeDocument/2006/relationships/hyperlink" Target="http://www.cddiski.ru/catalog/1877/1891" TargetMode="External"/><Relationship Id="rId15" Type="http://schemas.openxmlformats.org/officeDocument/2006/relationships/hyperlink" Target="http://cvetu.katalogkatalog.ru/n/nefrolepis/index.html" TargetMode="External"/><Relationship Id="rId16" Type="http://schemas.openxmlformats.org/officeDocument/2006/relationships/hyperlink" Target="http://www.ufl.ua/ru/12/0/3018" TargetMode="External"/><Relationship Id="rId17" Type="http://schemas.openxmlformats.org/officeDocument/2006/relationships/hyperlink" Target="http://www.ufl.ua/ru/12/0/3018" TargetMode="External"/><Relationship Id="rId18" Type="http://schemas.openxmlformats.org/officeDocument/2006/relationships/hyperlink" Target="http://www.ufl.ua/ru/12/0/3018" TargetMode="External"/><Relationship Id="rId19" Type="http://schemas.openxmlformats.org/officeDocument/2006/relationships/hyperlink" Target="http://www.ufl.ua/ru/12/0/3018" TargetMode="External"/><Relationship Id="rId20" Type="http://schemas.openxmlformats.org/officeDocument/2006/relationships/hyperlink" Target="http://www.ufl.ua/ru/12/0/3018" TargetMode="External"/><Relationship Id="rId21" Type="http://schemas.openxmlformats.org/officeDocument/2006/relationships/hyperlink" Target="http://www.ufl.ua/ru/12/0/3018" TargetMode="External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3040" y="3860640"/>
            <a:ext cx="827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Monotype Corsiva"/>
              </a:rPr>
              <a:t>Мир комнатных раст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5157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56720" y="5925960"/>
            <a:ext cx="118728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324000" y="5897520"/>
            <a:ext cx="122400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84360" y="476280"/>
            <a:ext cx="4391280" cy="33955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3600360" cy="3600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1301760" cy="1873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1765440" cy="180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Значение комнатных растений 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 нашей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68360" y="4508640"/>
            <a:ext cx="1224000" cy="360360"/>
          </a:xfrm>
          <a:custGeom>
            <a:avLst/>
            <a:gdLst>
              <a:gd name="textAreaLeft" fmla="*/ 224280 w 1224000"/>
              <a:gd name="textAreaRight" fmla="*/ 816840 w 1224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15" hR="21600" stAng="10800000" swAng="5400000"/>
                <a:lnTo>
                  <a:pt x="10457" y="0"/>
                </a:lnTo>
                <a:arcTo wR="7915" hR="21600" stAng="-5400000" swAng="2362273"/>
                <a:lnTo>
                  <a:pt x="20912" y="12793"/>
                </a:lnTo>
                <a:lnTo>
                  <a:pt x="17100" y="21600"/>
                </a:lnTo>
                <a:lnTo>
                  <a:pt x="11912" y="12793"/>
                </a:lnTo>
                <a:lnTo>
                  <a:pt x="15141" y="12793"/>
                </a:lnTo>
                <a:arcTo wR="7915" hR="21600" stAng="-3037727" swAng="-2157569"/>
                <a:lnTo>
                  <a:pt x="9186" y="280"/>
                </a:lnTo>
                <a:arcTo wR="7915" hR="21600" stAng="-5604704" swAng="-5195296"/>
                <a:close/>
              </a:path>
              <a:path fill="darkenLess" w="21600" h="21600">
                <a:moveTo>
                  <a:pt x="0" y="21600"/>
                </a:moveTo>
                <a:arcTo wR="7915" hR="21600" stAng="10800000" swAng="5400000"/>
                <a:lnTo>
                  <a:pt x="7915" y="0"/>
                </a:lnTo>
                <a:arcTo wR="7915" hR="21600" stAng="-5400000" swAng="204704"/>
                <a:lnTo>
                  <a:pt x="9186" y="280"/>
                </a:lnTo>
                <a:arcTo wR="7915" hR="21600" stAng="-5604704" swAng="-5195296"/>
                <a:close/>
              </a:path>
            </a:pathLst>
          </a:custGeom>
          <a:solidFill>
            <a:srgbClr val="5f5f5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 rot="10800000">
            <a:off x="2050560" y="4508280"/>
            <a:ext cx="1297080" cy="360360"/>
          </a:xfrm>
          <a:custGeom>
            <a:avLst/>
            <a:gdLst>
              <a:gd name="textAreaLeft" fmla="*/ 259560 w 1297080"/>
              <a:gd name="textAreaRight" fmla="*/ 907920 w 12970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48" hR="21600" stAng="10800000" swAng="-5400000"/>
                <a:lnTo>
                  <a:pt x="10793" y="21600"/>
                </a:lnTo>
                <a:arcTo wR="8648" hR="21600" stAng="5400000" swAng="-2620128"/>
                <a:lnTo>
                  <a:pt x="20927" y="8354"/>
                </a:lnTo>
                <a:lnTo>
                  <a:pt x="18368" y="0"/>
                </a:lnTo>
                <a:lnTo>
                  <a:pt x="14462" y="8354"/>
                </a:lnTo>
                <a:lnTo>
                  <a:pt x="16622" y="8354"/>
                </a:lnTo>
                <a:arcTo wR="8648" hR="21600" stAng="2779872" swAng="2448250"/>
                <a:lnTo>
                  <a:pt x="9720" y="21433"/>
                </a:lnTo>
                <a:arcTo wR="8648" hR="21600" stAng="5571878" swAng="5228122"/>
                <a:close/>
              </a:path>
              <a:path fill="darkenLess" w="21600" h="21600">
                <a:moveTo>
                  <a:pt x="0" y="0"/>
                </a:moveTo>
                <a:arcTo wR="8648" hR="21600" stAng="10800000" swAng="-5400000"/>
                <a:lnTo>
                  <a:pt x="10793" y="21600"/>
                </a:lnTo>
                <a:arcTo wR="8648" hR="21600" stAng="5400000" swAng="171878"/>
                <a:lnTo>
                  <a:pt x="9720" y="21433"/>
                </a:lnTo>
                <a:arcTo wR="8648" hR="21600" stAng="5571878" swAng="5228122"/>
                <a:close/>
              </a:path>
            </a:pathLst>
          </a:custGeom>
          <a:solidFill>
            <a:srgbClr val="5f5f5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950760" y="1125360"/>
            <a:ext cx="1533600" cy="204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26560" y="328464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2040" y="3341520"/>
            <a:ext cx="18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4680" y="60055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ирают п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11240" y="6005520"/>
            <a:ext cx="29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чищают 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3851280" y="285264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5364000" y="2060640"/>
            <a:ext cx="115272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484000" y="220464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627280" y="4365720"/>
            <a:ext cx="122400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450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4508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66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365720"/>
            <a:ext cx="107964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6516720" y="1197000"/>
            <a:ext cx="183024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5292720" y="1844640"/>
            <a:ext cx="1990800" cy="3600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5148360" y="1844640"/>
            <a:ext cx="28728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77564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– лека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4064040" cy="3048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364000" y="1484280"/>
            <a:ext cx="2970360" cy="395928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982160" y="486900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7360" y="558972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рань души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Работа по учебни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732720" y="3860640"/>
            <a:ext cx="1471320" cy="26686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775640" y="573408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1797120"/>
            <a:ext cx="5327640" cy="3993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.  Прочитай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р. 71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. Расскажи, что надо делать, чтобы растения всегда были здоров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расив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367320" y="476280"/>
            <a:ext cx="2237040" cy="2952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Уход за комнатными расте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940360" y="1363680"/>
            <a:ext cx="2664000" cy="1998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39640" y="3933720"/>
            <a:ext cx="2592360" cy="1832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539640" y="1413000"/>
            <a:ext cx="2592360" cy="18716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348000" y="2263680"/>
            <a:ext cx="2409840" cy="2820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5940360" y="4005360"/>
            <a:ext cx="2592360" cy="1992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cartoonclipartfree.com/Cliparts_Free/Pflanzen_Free/Cartoon_Clipart_Free_Page_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n-web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i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vie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cveti-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oizveti.ucoz.ru/publ/14-1-0-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lower-care.ru/2010/08/page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news.marketgid.com/ru/907/page200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cddiski.ru/catalog/1877/18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cvetu.katalogkatalog.ru/n/nefrolepi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ufl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12/0/3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eauty.wild-mistress.ru/wm/beauty.nsf/publicall/2010-06-07-29442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hotosight.ru/photos/2307048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nfo.vneti.com.ua/projekt/ekzotikflora/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otsib.ru/component/option,com_datsogallery/Itemid,80/func,detail/catid,3/id,6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tki.yandex.ru/users/honya-ps/view/711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88000" y="1835280"/>
            <a:ext cx="1990800" cy="360972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332000" y="1916280"/>
            <a:ext cx="4537080" cy="3095280"/>
          </a:xfrm>
          <a:prstGeom prst="roundRect">
            <a:avLst>
              <a:gd name="adj" fmla="val 16667"/>
            </a:avLst>
          </a:prstGeom>
          <a:solidFill>
            <a:srgbClr val="ffd869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чищают возду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ют ую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окнах зелен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зимой цвету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900000" y="1521000"/>
            <a:ext cx="5413320" cy="4213080"/>
          </a:xfrm>
          <a:prstGeom prst="rect">
            <a:avLst/>
          </a:prstGeom>
          <a:ln w="38160">
            <a:solidFill>
              <a:srgbClr val="ff66cc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762920" y="404640"/>
            <a:ext cx="58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Комнатные раст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Какие комнатные растения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ты знаеш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19280" y="1871640"/>
            <a:ext cx="6192720" cy="3862440"/>
          </a:xfrm>
          <a:prstGeom prst="rect">
            <a:avLst/>
          </a:prstGeom>
          <a:ln w="38160">
            <a:solidFill>
              <a:srgbClr val="fbc8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Растения нашего клас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588000" y="1700280"/>
            <a:ext cx="1857600" cy="36720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55640" y="1700280"/>
            <a:ext cx="2403360" cy="36720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564000" y="1700280"/>
            <a:ext cx="2609640" cy="36748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758520" y="551664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фролеп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14640" y="551664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с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3600" y="550224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севи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82920" y="1484280"/>
            <a:ext cx="2268720" cy="338472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84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308720" y="411120"/>
            <a:ext cx="1368720" cy="1073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-36360" y="544500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7" descr="Рисунок9.jpg"/>
          <p:cNvPicPr/>
          <p:nvPr/>
        </p:nvPicPr>
        <p:blipFill>
          <a:blip r:embed="rId5"/>
          <a:stretch/>
        </p:blipFill>
        <p:spPr>
          <a:xfrm>
            <a:off x="324000" y="620640"/>
            <a:ext cx="2950920" cy="2376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792760" y="3213000"/>
            <a:ext cx="3027240" cy="23781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543480" y="4981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6160" y="508464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уфорб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960" y="335772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тифилл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9440" y="580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сс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292720" y="3573360"/>
            <a:ext cx="3246480" cy="22748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5942160" y="595008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фф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84360" y="765000"/>
            <a:ext cx="3563640" cy="47530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825560" y="58053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8880" y="2924280"/>
            <a:ext cx="27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за китай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219640" y="403200"/>
            <a:ext cx="3273480" cy="245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Подумай, чем комнатные растения отличаются от растений в приро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264280" y="1773360"/>
            <a:ext cx="2962080" cy="424800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367164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55640" y="1700280"/>
            <a:ext cx="3529080" cy="2089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250920" y="2513160"/>
            <a:ext cx="86421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енью листья у лиственных деревьев и кустарников желтеют, краснеют и опадают. Зимой они стоят голые под снегом. Весной на них появ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ются новые, молодые лис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изменения в неживой природе с наступлением зимы, комнатные растения по-прежнему остались зелёными.Эти растения дер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т в помещении, а в помещении тепло. Человек ухаживает за комнатными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0.49219 -0.51458 E">
                                      <p:cBhvr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-0.04323 -0.18379 E">
                                      <p:cBhvr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515880"/>
            <a:ext cx="8675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большинства ко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ных растений – жар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ы, где кругл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. Поэтому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ёт и зимой для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но такие же ус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я, как и летом,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погибли 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растения выращивают только в помещен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их и называют  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мнатные раст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4000" y="476280"/>
            <a:ext cx="3822480" cy="41050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rot="5400000">
            <a:off x="4441680" y="-4441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441680" y="2155680"/>
            <a:ext cx="260280" cy="914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Работа по учебни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32720" y="3860640"/>
            <a:ext cx="1471320" cy="26686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775640" y="5734080"/>
            <a:ext cx="1368360" cy="107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1797120"/>
            <a:ext cx="5327640" cy="35060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.  Прочитай 1-ый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тр. 72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. Расскажи, поч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юди выращ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натные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67320" y="476280"/>
            <a:ext cx="2237040" cy="2952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-396720" y="5740560"/>
            <a:ext cx="13683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7:38:43Z</dcterms:created>
  <dc:creator>мама</dc:creator>
  <dc:description/>
  <dc:language>en-US</dc:language>
  <cp:lastModifiedBy>мама</cp:lastModifiedBy>
  <dcterms:modified xsi:type="dcterms:W3CDTF">2010-10-20T17:14:07Z</dcterms:modified>
  <cp:revision>9</cp:revision>
  <dc:subject/>
  <dc:title>Слайд 1</dc:title>
</cp:coreProperties>
</file>